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C61-C5DA-4299-9CDF-9A38E5DF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73D-27DA-4227-957A-2F2AF6CA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73E-11B4-424E-AEA3-CCFF829F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331-026C-4B7D-92EB-FCC5B58F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6932-BB79-489C-8C9B-6990A09D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2E24-A399-4B62-A9F8-A1785E6A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3936-14AA-47E9-BB94-64D233B6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6E7E-4D10-46B8-9D86-680A1A2F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0AE-0AC3-4E38-B7BC-838F1D7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40AA-C624-4137-883E-2BC8D7BB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CBBE-7629-4D3F-AC1D-DB65C2BF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713-FBCC-4249-B615-7FAC9468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AEF-34DF-48BF-8B7B-C81541F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6EB0-D4EA-49F4-B115-B1740D4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3DD9-49A2-4D56-A579-AB9FCDAE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2803-BE59-40E1-A376-7D662415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57C6-3DA0-4D2F-A953-F46E34BA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F6C-23B5-43ED-B738-4C89B3C7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43D-0F8D-4D61-B1D6-B8A1945A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995-4B19-4101-9429-4C874FF7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1C1-1E82-4F20-96D7-AC775463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CB6-4383-45F8-81AB-CBED8FA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4B2-9688-49F0-9240-4485F9CD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9EA-0ADF-4AAC-A6FA-3CBC880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656D-DED7-4895-9380-9E4290EF373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8CA-B01B-40E0-8E2F-4198267D8DE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21320" y="3562200"/>
            <a:ext cx="1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8120" y="13716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inting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623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nting occurs when the blood supply to the brain is cut off for a short period of time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who faints… loses consciousness for a period of tim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914400"/>
            <a:ext cx="637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What causes fainting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600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acintosh HD:Users:student:Desktop:78654204.mp3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someone faints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laug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just stan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ru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go out to 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screa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pick up the vict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199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543800" y="4038480"/>
            <a:ext cx="752400" cy="114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19920" y="4267080"/>
            <a:ext cx="1155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f someone faints.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the victim’s leg 8 to 12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sen any tight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 victim’s breathing, keeping his or her airway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Macintosh HD:Users:student:Desktop:ChorusKickAddedLayers.wav" descr=""/>
          <p:cNvPicPr/>
          <p:nvPr/>
        </p:nvPicPr>
        <p:blipFill>
          <a:blip r:embed="rId2"/>
          <a:stretch/>
        </p:blipFill>
        <p:spPr>
          <a:xfrm>
            <a:off x="39625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1147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victim does not regain consciousness… get medical hel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ware that fainting may signal a more serious conditio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327400" cy="212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762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o now what??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acintosh HD:Users:student:Desktop:Sound Effect - Winner 01.wav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133720" y="1828800"/>
            <a:ext cx="494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 for watching!!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de by Laura Nol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36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5:41Z</dcterms:created>
  <dc:creator>Kraybill Campus LMS</dc:creator>
  <dc:description/>
  <dc:language>en-US</dc:language>
  <cp:lastModifiedBy>Kraybill Campus LMS</cp:lastModifiedBy>
  <dcterms:modified xsi:type="dcterms:W3CDTF">2011-05-25T16:02:19Z</dcterms:modified>
  <cp:revision>4</cp:revision>
  <dc:subject/>
  <dc:title>PowerPoint Presentation</dc:title>
</cp:coreProperties>
</file>